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7.jpeg" ContentType="image/jpeg"/>
  <Override PartName="/ppt/media/image34.jpeg" ContentType="image/jpeg"/>
  <Override PartName="/ppt/media/image18.png" ContentType="image/png"/>
  <Override PartName="/ppt/media/image28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A24E-8E44-4C48-9EEB-046A05B1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12CB-2354-4DF5-A186-CFB0CA11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1A1F-8B2C-447F-BD46-199E75CF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EDFF-987D-4325-8C70-729FDF88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94CA-56A4-491E-86BA-696A80E9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477D-D763-485F-894E-57DE97FC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2F76-92A9-43BC-8B19-64415648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2C83-96E6-4006-8AC4-93CC46FE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0D51-16A4-4C68-91F1-2F9C7496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B3AD-72BA-442E-999D-7701E81F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2546-9903-4B62-B9B3-247599C6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1A36-0AD5-4F4F-BD31-52284FFC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F802-5E78-4E05-896E-DF9CC12F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F967-34D7-4441-8C56-1708DAC3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8974-25F5-4843-A720-C2C58A4C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CD32-9818-484B-AB28-72782770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24E8-1839-4687-A90B-122FA523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5FD2D-CCBE-45A3-A12D-DAD9F0ED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E2333-2418-447E-A231-EFB4FFFD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B703E-5A95-4D19-9F60-05F59363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5EC8C-07BF-4B7B-91E3-64A0D818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E11C1-32D3-4E73-A0F8-1E33507A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3F93-A7E5-4F24-B3E2-D3124362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68433-45F9-41CD-8ED6-CC7A9F5F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ACA98-6CEA-44C9-B917-F0B9A754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FF9FE-2CD5-4286-BCA5-A3EE7E46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E6151-4541-48B1-9238-5CDA3B54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D25B9-5BE9-4947-B68B-5EF3E7F0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4B25B-D58B-42D2-B407-F2569114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F96D1-EE50-4733-9D68-3F11FFF7F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F3F17-75D5-4499-A8AB-92888BBC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A04B1-EAD9-4758-89D5-AB96C9D9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86C64-53DD-4021-8B68-4F613920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0D22-636D-44A8-B687-12CF85F2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6105B-4DA5-4324-88A6-CCA98FBC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8C26B-202C-4EAF-B5F0-2476948B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74F1A-A9F6-41F4-B6E2-043D2C64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CEF54-F9FC-4EFE-9D25-5488FD88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3EB96-481C-4EA1-8AD7-282E7014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9E427-7E14-4F44-B4D9-FF2C1D1C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C848E-ECE4-4D4D-9D97-2AE7C46F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8AF78-0CBE-47C4-B0CB-4E6B0974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091D3-1831-4D95-9922-B3EA7021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B045-918E-4DAF-B317-131D0244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2279-94EE-4E32-A836-3BEEF0FD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3769-B019-4E53-A4CF-8B9AE19D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0951-EB3E-4257-A8CF-56FE469C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9C86-D19D-4C3D-BD4B-47EF224C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D13C-52D0-44DA-96F8-0D0955F06168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5BC1-CD6A-4062-B3E1-5FB1F121357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9C07-7E00-4EEB-8F73-962F78DA9EA8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4C3C-53F1-4D4C-897D-EB8ED99B361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2E46-81B5-4736-A178-92913FE50AB6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FFAB-60F7-4358-A86D-99F999A6982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7C80-AB95-4704-A063-8E8A412732AC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52A4-A4DE-48B7-8A6F-3C941D1659F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. 22 Warm-U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at do you remember about Charles Darwin and his scientific ideas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ccording to Campbell, what is the definition of “evolution”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228600" y="990360"/>
            <a:ext cx="8763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Hutton / Lyell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72560" indent="-41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Gradualism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= geologic change results from slow &amp; gradual, continuous proces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72560" indent="-41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Uniformitarianism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= Earth’s processes same rate in past &amp; prese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therefore </a:t>
            </a:r>
            <a:r>
              <a:rPr b="1" i="1" lang="en-US" sz="2800" spc="-1" strike="noStrike">
                <a:solidFill>
                  <a:srgbClr val="0000ff"/>
                </a:solidFill>
                <a:latin typeface="Constantia"/>
              </a:rPr>
              <a:t>Earth is very ol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72560" indent="-41580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low &amp; subtle changes in organism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big chang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022760" indent="-415800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Calibri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http://marcelopcarvalho.files.wordpress.com/2009/02/lyell.jpg"/>
          <p:cNvPicPr/>
          <p:nvPr/>
        </p:nvPicPr>
        <p:blipFill>
          <a:blip r:embed="rId1"/>
          <a:stretch/>
        </p:blipFill>
        <p:spPr>
          <a:xfrm>
            <a:off x="6477120" y="3876840"/>
            <a:ext cx="2286000" cy="2752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http://www.cartage.org.lb/en/themes/sciences/earthscience/Geology/AboutGeology/Catastrophism/hutton.jpg"/>
          <p:cNvPicPr/>
          <p:nvPr/>
        </p:nvPicPr>
        <p:blipFill>
          <a:blip r:embed="rId2"/>
          <a:stretch/>
        </p:blipFill>
        <p:spPr>
          <a:xfrm>
            <a:off x="609480" y="3889440"/>
            <a:ext cx="1873440" cy="27399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4"/>
          <p:cNvSpPr/>
          <p:nvPr/>
        </p:nvSpPr>
        <p:spPr>
          <a:xfrm>
            <a:off x="3962520" y="5565960"/>
            <a:ext cx="28954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les Lye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97-1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2057400" y="4196160"/>
            <a:ext cx="28954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Hutt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26-17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2476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8380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50000" indent="-42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Lamarck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50000" indent="-42516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ublished theory of evolution (1809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4" marL="1555920" indent="-425160">
              <a:spcBef>
                <a:spcPts val="7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Use and Disus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 parts of body use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bigger, stronger (eg. giraffe’s neck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4" marL="1555920" indent="-425160">
              <a:spcBef>
                <a:spcPts val="7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Inheritance of Acquired Characteristic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 modifications can be passed 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4" marL="1555920" indent="-425160">
              <a:spcBef>
                <a:spcPts val="7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onstantia"/>
              </a:rPr>
              <a:t>Importanc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 Recognized that species evolve, although explanation was flaw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4" marL="1555920" indent="-425160">
              <a:spcBef>
                <a:spcPts val="7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045080" indent="-425160">
              <a:spcBef>
                <a:spcPts val="700"/>
              </a:spcBef>
              <a:buClr>
                <a:srgbClr val="009dd9"/>
              </a:buClr>
              <a:buSzPct val="70000"/>
              <a:buFont typeface="Calibri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2971800" y="918000"/>
            <a:ext cx="40384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an-Baptiste Lamarc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44-18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http://www.veeriku.tartu.ee/~ppensa/giraffe3.jpg"/>
          <p:cNvPicPr/>
          <p:nvPr/>
        </p:nvPicPr>
        <p:blipFill>
          <a:blip r:embed="rId2"/>
          <a:stretch/>
        </p:blipFill>
        <p:spPr>
          <a:xfrm>
            <a:off x="212760" y="3657600"/>
            <a:ext cx="181116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173400" y="837720"/>
            <a:ext cx="5943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Malthu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ore babies born than death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nsequences of overproducing within environment = war, famine, disease (limits of human pop.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ruggle for existen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http://www.nndb.com/people/250/000024178/malthus.jpg"/>
          <p:cNvPicPr/>
          <p:nvPr/>
        </p:nvPicPr>
        <p:blipFill>
          <a:blip r:embed="rId1"/>
          <a:stretch/>
        </p:blipFill>
        <p:spPr>
          <a:xfrm>
            <a:off x="380880" y="1447920"/>
            <a:ext cx="2514600" cy="3294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http://farm3.static.flickr.com/2363/2779544031_f3ae2bff48.jpg"/>
          <p:cNvPicPr/>
          <p:nvPr/>
        </p:nvPicPr>
        <p:blipFill>
          <a:blip r:embed="rId2"/>
          <a:stretch/>
        </p:blipFill>
        <p:spPr>
          <a:xfrm>
            <a:off x="4038480" y="3962520"/>
            <a:ext cx="3810240" cy="253656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4"/>
          <p:cNvSpPr/>
          <p:nvPr/>
        </p:nvSpPr>
        <p:spPr>
          <a:xfrm>
            <a:off x="380880" y="4784760"/>
            <a:ext cx="25909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as Malt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766-18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arles Darwi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9-1882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1934640"/>
            <a:ext cx="48769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nglish naturalis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831: joined the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HMS Beagl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for a 5-year research voyage around the worl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llected and studied plant and animal specimens, bones, fossi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table stop: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Galapagos Islan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1" descr="22_05bBeagleVoyage-L.jpg"/>
          <p:cNvPicPr/>
          <p:nvPr/>
        </p:nvPicPr>
        <p:blipFill>
          <a:blip r:embed="rId1"/>
          <a:stretch/>
        </p:blipFill>
        <p:spPr>
          <a:xfrm>
            <a:off x="5562720" y="1676520"/>
            <a:ext cx="32922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MS Beagle (1831-1836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6" name="Content Placeholder 1" descr="22_05aBeagleVoyage-L.jpg"/>
          <p:cNvPicPr/>
          <p:nvPr/>
        </p:nvPicPr>
        <p:blipFill>
          <a:blip r:embed="rId1"/>
          <a:srcRect l="0" t="2248" r="0" b="2248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6E41-73F0-488C-B5C5-DCA1B9FB195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alapagos Islan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Picture 7" descr="gpcolor"/>
          <p:cNvPicPr/>
          <p:nvPr/>
        </p:nvPicPr>
        <p:blipFill>
          <a:blip r:embed="rId1"/>
          <a:stretch/>
        </p:blipFill>
        <p:spPr>
          <a:xfrm>
            <a:off x="4267080" y="1447920"/>
            <a:ext cx="4505400" cy="49910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galapagosone"/>
          <p:cNvPicPr/>
          <p:nvPr/>
        </p:nvPicPr>
        <p:blipFill>
          <a:blip r:embed="rId2"/>
          <a:stretch/>
        </p:blipFill>
        <p:spPr>
          <a:xfrm>
            <a:off x="380880" y="1523880"/>
            <a:ext cx="3429000" cy="22640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isla-baltra"/>
          <p:cNvPicPr/>
          <p:nvPr/>
        </p:nvPicPr>
        <p:blipFill>
          <a:blip r:embed="rId3"/>
          <a:stretch/>
        </p:blipFill>
        <p:spPr>
          <a:xfrm>
            <a:off x="304920" y="3801960"/>
            <a:ext cx="365760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" descr="22_02bDarwinContext-L.jpg"/>
          <p:cNvPicPr/>
          <p:nvPr/>
        </p:nvPicPr>
        <p:blipFill>
          <a:blip r:embed="rId1"/>
          <a:stretch/>
        </p:blipFill>
        <p:spPr>
          <a:xfrm>
            <a:off x="380880" y="457200"/>
            <a:ext cx="3827520" cy="265104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5F26-8E21-4F15-BF4F-7AB53048440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9" descr="014_14(2)"/>
          <p:cNvPicPr/>
          <p:nvPr/>
        </p:nvPicPr>
        <p:blipFill>
          <a:blip r:embed="rId2"/>
          <a:stretch/>
        </p:blipFill>
        <p:spPr>
          <a:xfrm>
            <a:off x="3962520" y="3809880"/>
            <a:ext cx="4952880" cy="2756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3" descr="72219530_8436517036"/>
          <p:cNvPicPr/>
          <p:nvPr/>
        </p:nvPicPr>
        <p:blipFill>
          <a:blip r:embed="rId3"/>
          <a:stretch/>
        </p:blipFill>
        <p:spPr>
          <a:xfrm>
            <a:off x="4572000" y="380880"/>
            <a:ext cx="4381560" cy="2882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1" descr="galap_sealion"/>
          <p:cNvPicPr/>
          <p:nvPr/>
        </p:nvPicPr>
        <p:blipFill>
          <a:blip r:embed="rId4"/>
          <a:stretch/>
        </p:blipFill>
        <p:spPr>
          <a:xfrm>
            <a:off x="762120" y="4191120"/>
            <a:ext cx="2419200" cy="2038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galapagostwo"/>
          <p:cNvPicPr/>
          <p:nvPr/>
        </p:nvPicPr>
        <p:blipFill>
          <a:blip r:embed="rId5"/>
          <a:stretch/>
        </p:blipFill>
        <p:spPr>
          <a:xfrm>
            <a:off x="2666880" y="2514600"/>
            <a:ext cx="28576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" descr="22_06_BeakVariation-L.jpg"/>
          <p:cNvPicPr/>
          <p:nvPr/>
        </p:nvPicPr>
        <p:blipFill>
          <a:blip r:embed="rId1"/>
          <a:stretch/>
        </p:blipFill>
        <p:spPr>
          <a:xfrm>
            <a:off x="380880" y="1552680"/>
            <a:ext cx="6248520" cy="50482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Darwin’s Finch Collec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5334120" y="3886200"/>
            <a:ext cx="3657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tantia"/>
              </a:rPr>
              <a:t>The birds were all about the same size, but the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shape</a:t>
            </a:r>
            <a:r>
              <a:rPr b="0" lang="en-US" sz="2800" spc="-1" strike="noStrike">
                <a:solidFill>
                  <a:srgbClr val="0000ff"/>
                </a:solidFill>
                <a:latin typeface="Constantia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size</a:t>
            </a:r>
            <a:r>
              <a:rPr b="0" lang="en-US" sz="2800" spc="-1" strike="noStrike">
                <a:solidFill>
                  <a:srgbClr val="0000ff"/>
                </a:solidFill>
                <a:latin typeface="Constantia"/>
              </a:rPr>
              <a:t> of the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eaks</a:t>
            </a:r>
            <a:r>
              <a:rPr b="0" lang="en-US" sz="2800" spc="-1" strike="noStrike">
                <a:solidFill>
                  <a:srgbClr val="0000ff"/>
                </a:solidFill>
                <a:latin typeface="Constantia"/>
              </a:rPr>
              <a:t> of each species were diffe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D7B0-2670-456A-A201-198D8927719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14640" y="2437920"/>
            <a:ext cx="29718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iant</a:t>
            </a: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rto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3" name="Picture 6" descr="tortoisg"/>
          <p:cNvPicPr/>
          <p:nvPr/>
        </p:nvPicPr>
        <p:blipFill>
          <a:blip r:embed="rId1"/>
          <a:stretch/>
        </p:blipFill>
        <p:spPr>
          <a:xfrm>
            <a:off x="685800" y="2562120"/>
            <a:ext cx="4876920" cy="32940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3"/>
          <p:cNvSpPr/>
          <p:nvPr/>
        </p:nvSpPr>
        <p:spPr>
          <a:xfrm>
            <a:off x="533520" y="990720"/>
            <a:ext cx="830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vice-governor of the Galapagos Islands told Darwin that he could tell which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island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a particular tortoise came from by looking at its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hell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C9E9-79B3-42F2-8442-116E8C33C1F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arwin waited 30 years before he published his ideas on evolu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lfred Russell Wallace – published paper on natural selection first (1858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harles Darwin (1859):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On the Origin of Species by Means of Natural Sele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echanism for evolution is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Natural Sele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arwin didn’t use “evolution”, but rather “</a:t>
            </a:r>
            <a:r>
              <a:rPr b="0" i="1" lang="en-US" sz="2800" spc="-1" strike="noStrike">
                <a:solidFill>
                  <a:srgbClr val="0000ff"/>
                </a:solidFill>
                <a:latin typeface="Constantia"/>
              </a:rPr>
              <a:t>descent with modification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530280" y="1371600"/>
            <a:ext cx="7918560" cy="19810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495320" y="3228480"/>
            <a:ext cx="38926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scent with Modification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Darwinian View of Lif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art A: Darwin &amp; Natural Selec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Picture 12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3917880" cy="538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2880" y="533520"/>
            <a:ext cx="365760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 the Origin of Species by Means of Natural Selection</a:t>
            </a:r>
            <a:r>
              <a:rPr b="1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Charles Darw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859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Picture 1" descr="22_02dDarwinContext-L.jpg"/>
          <p:cNvPicPr/>
          <p:nvPr/>
        </p:nvPicPr>
        <p:blipFill>
          <a:blip r:embed="rId1"/>
          <a:stretch/>
        </p:blipFill>
        <p:spPr>
          <a:xfrm>
            <a:off x="457200" y="609480"/>
            <a:ext cx="4214880" cy="57643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" descr="22_07DarwinIThinkTree-L.jpg"/>
          <p:cNvPicPr/>
          <p:nvPr/>
        </p:nvPicPr>
        <p:blipFill>
          <a:blip r:embed="rId2"/>
          <a:stretch/>
        </p:blipFill>
        <p:spPr>
          <a:xfrm>
            <a:off x="5334120" y="3352680"/>
            <a:ext cx="289548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04920" y="106632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nstantia"/>
              </a:rPr>
              <a:t>Adaptation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enhance an organism’s ability to survive and reprodu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g. Desert fox - large ears, arctic fox - small ea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nstantia"/>
              </a:rPr>
              <a:t>Overproduction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f offspring leads to </a:t>
            </a:r>
            <a:r>
              <a:rPr b="1" i="1" lang="en-US" sz="2800" spc="-1" strike="noStrike">
                <a:solidFill>
                  <a:srgbClr val="ff0000"/>
                </a:solidFill>
                <a:latin typeface="Constantia"/>
              </a:rPr>
              <a:t>competition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r resourc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3" descr="22_12_Camouflage-L.jpg"/>
          <p:cNvPicPr/>
          <p:nvPr/>
        </p:nvPicPr>
        <p:blipFill>
          <a:blip r:embed="rId1"/>
          <a:stretch/>
        </p:blipFill>
        <p:spPr>
          <a:xfrm>
            <a:off x="1295280" y="3657600"/>
            <a:ext cx="6489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724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fore, if humans can create substantial change over short time, nature can over long time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57200" y="228600"/>
          <a:ext cx="8229600" cy="3960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atural Sel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rtificial Sel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ature dec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n” dec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rks on individ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lective bree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breeding occ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g. bea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g. dalm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Key Ideas of Natural Selection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4475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tantia"/>
              </a:rPr>
              <a:t>Competition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for limited resources results in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differential survival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Evolutionary Fitnes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 Individuals with more favorable phenotypes more likely to survive and produce more offspring, and pass traits to future genera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f environment changes or individuals move to new environment, new adaptations and new species may aris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nstantia"/>
              </a:rPr>
              <a:t>Populations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volve, not individual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you must know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ow Lamarck’s view of the mechanism of evolution differed from Darwin’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role of adaptations, variation, time, reproductive success, and heritability in evolu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escent with Mod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Them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volutionary change is based on the interactions between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population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&amp; their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environment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which results in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adaptation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(inherited characteristics) to increase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fitnes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Evolution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= change over time in the genetic composition of a popul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istorical Process of Scie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243792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Aristotl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 life-forms arranged on scale on increasing complexity (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scala natura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12" descr=""/>
          <p:cNvPicPr/>
          <p:nvPr/>
        </p:nvPicPr>
        <p:blipFill>
          <a:blip r:embed="rId1"/>
          <a:stretch/>
        </p:blipFill>
        <p:spPr>
          <a:xfrm>
            <a:off x="5486400" y="2362320"/>
            <a:ext cx="2338560" cy="28843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5"/>
          <p:cNvSpPr/>
          <p:nvPr/>
        </p:nvSpPr>
        <p:spPr>
          <a:xfrm>
            <a:off x="5486400" y="5343120"/>
            <a:ext cx="23781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stot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4-322 B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0" y="9140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Old Testament - Creationism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 Earth ~6000 years old; perfect species individually designed by Go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Natural theology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 discovering Creator’s plan by studying nature; to classify natu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79480" indent="-51444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http://herokids.files.wordpress.com/2008/04/earth.jpg"/>
          <p:cNvPicPr/>
          <p:nvPr/>
        </p:nvPicPr>
        <p:blipFill>
          <a:blip r:embed="rId1"/>
          <a:stretch/>
        </p:blipFill>
        <p:spPr>
          <a:xfrm>
            <a:off x="5867280" y="358128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429000" y="10666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-45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Linnaeu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 founder of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taxonomy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;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binomial nomenclatu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73640" indent="-45252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main – Kingdom – Phylum – Class – Order – Family - Genus – Specie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73640" indent="-45252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a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Ph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lip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m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ve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o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aghetti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73640" indent="-45252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mains = Eubacteria, Archaea, Eukary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73640" indent="-45252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lassification based on anatomy &amp; morpholog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73640" indent="-45252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2903400" cy="37339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4"/>
          <p:cNvSpPr/>
          <p:nvPr/>
        </p:nvSpPr>
        <p:spPr>
          <a:xfrm>
            <a:off x="304920" y="4881960"/>
            <a:ext cx="28954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lus Linnaeu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7-17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914400"/>
            <a:ext cx="5410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Cuvie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aleontologist – studied fossi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eeper strata (layers) - very different fossils from current lif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pposed idea of evolu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Catastrophism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– catastrophe destroyed many living species, then repopulated by immigrant speci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5410080" y="3127680"/>
            <a:ext cx="40388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e Cuv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769-18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http://upload.wikimedia.org/wikipedia/en/thumb/9/90/Vincentwfa.jpg/220px-Vincentwfa.jpg"/>
          <p:cNvPicPr/>
          <p:nvPr/>
        </p:nvPicPr>
        <p:blipFill>
          <a:blip r:embed="rId1"/>
          <a:stretch/>
        </p:blipFill>
        <p:spPr>
          <a:xfrm>
            <a:off x="6324480" y="457200"/>
            <a:ext cx="2095560" cy="2600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http://upload.wikimedia.org/wikipedia/commons/thumb/8/87/Pterodactylus_antiquus_01_by_Line1.jpg/200px-Pterodactylus_antiquus_01_by_Line1.jpg"/>
          <p:cNvPicPr/>
          <p:nvPr/>
        </p:nvPicPr>
        <p:blipFill>
          <a:blip r:embed="rId2"/>
          <a:stretch/>
        </p:blipFill>
        <p:spPr>
          <a:xfrm>
            <a:off x="5964120" y="4295880"/>
            <a:ext cx="287496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426960" y="701640"/>
            <a:ext cx="8339040" cy="882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22_03SedimentaryStrata-L.jpg"/>
          <p:cNvPicPr/>
          <p:nvPr/>
        </p:nvPicPr>
        <p:blipFill>
          <a:blip r:embed="rId2"/>
          <a:stretch/>
        </p:blipFill>
        <p:spPr>
          <a:xfrm>
            <a:off x="1371600" y="1752480"/>
            <a:ext cx="624852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8:31:25Z</dcterms:created>
  <dc:creator>Chris Nancy Chou</dc:creator>
  <dc:description/>
  <dc:language>en-US</dc:language>
  <cp:lastModifiedBy>local</cp:lastModifiedBy>
  <dcterms:modified xsi:type="dcterms:W3CDTF">2013-02-01T16:02:20Z</dcterms:modified>
  <cp:revision>29</cp:revision>
  <dc:subject/>
  <dc:title>Chapter 22</dc:title>
</cp:coreProperties>
</file>